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BB11-18F4-4F7F-85FB-97B8CC660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AB96-1391-4BC3-A5DF-652580B43A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F2CE-BB30-4D0B-A492-48ED7799C7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4376-1F3F-4536-B42F-946B5F6A43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093D-F49E-4E3D-B57D-3A87DB61DB6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3E08-1D24-4FDA-9A20-D2DF3E1F4BA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5452-68CC-444F-B34B-B68F588966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90A6-3224-45B0-AE9E-35F2074334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67CD-7705-46E1-A321-9DB4E3797C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97E3-91A1-4F53-97BB-4115236E4A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C116-672E-449F-8A33-D52298D6E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CC6B-164A-493A-B16E-045C61962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19C3-5527-4C4C-A572-C655DDC01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7213-A87A-48D0-B24A-04AB8C36D5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E321-FD1E-4A9E-B959-412156D36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B93C-2912-4D5F-9A4A-1BF919A2C2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1CAC-812C-4DF9-9B40-93CA434FA1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5900-F3B0-4C4A-AD2E-44A8311B05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2254-A9B9-40F1-ACDB-A1DECF379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445A-ADDB-44DB-90BC-3AB611E890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84F6-C8DF-426B-B34C-1956BAB4F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42A2-3AE6-408B-A84C-D50ED67300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4ED1-1D33-4B0B-872B-7A0C62E137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E193-9525-4DBB-AABB-85F2EECD8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49BD-2604-47C5-B429-33177DAFEA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161A-6D88-411A-ADE4-BDB9345C4C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252-907C-40E5-AD7D-72E7AC96CC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D14-419D-46E1-82A3-D1D0ABB2AE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197-0F05-43B2-A17C-B47513E3C2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03A-0BD1-4299-BBA4-867B45A3C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55A-1BB8-42E7-B167-02BD70E16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4CE3-9B20-47D6-BE61-FE9E1D5019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4A4-75CB-4240-8619-5C6D3DD3D5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AEE-9FDC-4D6A-ACEA-A8B4E8D703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186-45C7-46CC-A0A3-D19ABA47CE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7EC-38DF-4B7F-89DB-05135F72AF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5A1-2028-4D63-BDDF-990731A7C9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AA1-730E-4A90-A5DF-3CA1A11B19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A11-0D75-4083-A437-536B80284F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12760-61AA-481F-B010-13CD064CB8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76C3-95C5-412E-99A4-62DBF72C71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0522D-0A84-4838-AE3B-1594E3A95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EFF3-A5F2-4D6D-9477-D50525D91A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3201-E57D-43AA-97CA-A31A3DE974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FFFA-BE1B-42AD-8AD3-A7327FFCCE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C38A-D788-4D56-90FD-1EA8905636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9CC38-C823-4A3D-95C5-8775CFDD80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E43DF-246D-46DB-AEDF-A4937DDCC2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139C1-6FDD-44F9-AC66-6E485DF186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54BD7-BD19-4B69-96A5-6385A13C5D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7A92-D1BE-494B-83DB-B8C17E249C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DD5C3-9135-456F-BAAE-72F2554F3B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C196A-F11B-4B66-9963-DD0063EE4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46EB-37BF-4AFA-934D-1FBDAA4642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B4CAB-8983-483A-B240-067CF92458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68B9C-4BAA-4A19-89E1-7B0E2B3C04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52C0-B0AC-45C3-A159-03A9BD1B46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3709-EE11-4C43-82C9-C74CFCE07F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BB87-6F59-44F7-97D4-2DAD802A6B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7572-0277-4869-84F9-F25544A31E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E4695-61DF-4E2F-9A42-C767B4B4A4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2294E-EBFC-4A89-BD69-7872D926BC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FEC5A-5266-4DDC-88E4-3255FDE377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3CCA5-FAAF-411A-9469-CC221D2D5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F801-EA4B-447A-B067-88A5582519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0E22D-9F54-4A82-AAB5-F715F2AFB5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83F4-5B3E-4369-A53D-6C2653D509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15C0-2F08-4C25-B8D2-CB4094B854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90F0-A50A-45FF-A7ED-FF8D3B91E6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4D8D-ABE9-491F-B634-57D395DF55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CAD-27EB-4795-96BA-8A725A8011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60C5-2AE8-4C72-947B-282029C862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6AD-0697-4340-ADD1-D1ECC2E3AF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A79A-42B3-4AF9-B8F7-D2CC5CA2B5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FA6-B2E3-407A-BFF1-FF878DC6A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13E5-92C6-47E6-9123-CFE1981B95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A24-6803-4F37-9DD6-6A6C06C91C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805-06B6-45EF-B3C3-09686B561E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837E-03B7-4719-83D9-F0C2165CD0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DDF87-135B-4B66-B064-331C7E19FC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D12E92-585D-4880-A2AD-AEC1C385CC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A451F-46DF-4631-9503-91EC750247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4C736-C8E3-4C0D-8BF5-C8A3B58CFD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93A22-A670-4834-A85B-9B6ADE3294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68137-0B97-4D97-8FD1-B339FA77CC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3383C-7CE3-4ADA-A3C1-49F7F892F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59D0-0CA0-4178-9E11-2622C3C445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8ED39-08BC-41A8-BED0-9FFAD72803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C8B83-06D2-4D43-A2A3-333A15905D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865AC-38D8-4D7D-AD30-C38B7F81F3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8B8DB-0C09-42D7-8A3E-5EDA145DDD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629A5-E43D-48E0-9723-0ABF88D85A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58D43-3657-4004-A757-6D245E64F0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56068-C1A2-46AF-AF50-CAD1872D30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10C0E-7EED-40AB-991B-7953BF1E8C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30696-B514-46EB-9F2F-FA04C88319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F311D-337B-490F-B027-161410EC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8666-6131-4252-90B2-4E8C70227D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F3C4A-FE74-4C62-AE7F-68DB3BB3942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43B4C-0E6B-4006-B263-B08A91D43E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6A8A5-C285-47D1-9FA3-CF78454916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04A74-6F1E-4D0A-8F72-BD7317FD9F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5DC5E-04C4-4D6D-AE8E-20BEAC2E294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7300D-9865-45D1-AFF3-76A385D28F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0BD44-3256-454E-BB30-417F2EC032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7EE4-27E9-4D20-9E9B-99CBAA5B96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D20D-1EC1-4CF8-B9B9-511ECAE0AF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FF92-DB80-41B7-8C36-A66E17830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3160" y="6473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FDD-69E6-4073-8350-77421EC619E4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84EA-30AE-45CD-A8DE-D9CD20F41792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6520" y="5340240"/>
            <a:ext cx="8643960" cy="23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3160" y="6473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4BC-E3DF-406B-A25A-53FC3C392CFF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6520" y="3432240"/>
            <a:ext cx="8643960" cy="23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47F-DEBC-4566-B06C-CBE3F2060CE4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6520" y="60102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A825-54BD-4925-83AD-B7BE791A007D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496-B5D4-4F70-8AF5-B9F2D2A42539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06520" y="5840280"/>
            <a:ext cx="8643960" cy="24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C1C-5027-48F3-8C1F-3D396E7CAE98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6C8-27DB-4FA6-9121-B738E6A33F2B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E8D-247C-464E-8099-ECCADE111200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351240" y="509760"/>
            <a:ext cx="2744640" cy="609480"/>
            <a:chOff x="3351240" y="509760"/>
            <a:chExt cx="2744640" cy="609480"/>
          </a:xfrm>
        </p:grpSpPr>
        <p:sp>
          <p:nvSpPr>
            <p:cNvPr id="359" name=""/>
            <p:cNvSpPr/>
            <p:nvPr/>
          </p:nvSpPr>
          <p:spPr>
            <a:xfrm>
              <a:off x="3351240" y="1014480"/>
              <a:ext cx="685800" cy="104760"/>
            </a:xfrm>
            <a:prstGeom prst="pie">
              <a:avLst/>
            </a:prstGeom>
            <a:solidFill>
              <a:srgbClr val="c08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08640" y="1014480"/>
              <a:ext cx="687240" cy="104760"/>
            </a:xfrm>
            <a:prstGeom prst="pie">
              <a:avLst/>
            </a:prstGeom>
            <a:solidFill>
              <a:srgbClr val="c08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51240" y="509760"/>
              <a:ext cx="2744640" cy="609480"/>
            </a:xfrm>
            <a:prstGeom prst="pie">
              <a:avLst/>
            </a:prstGeom>
            <a:noFill/>
            <a:ln w="25560">
              <a:solidFill>
                <a:srgbClr val="b07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04920" y="583920"/>
            <a:ext cx="868680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Lucida Grande"/>
              </a:rPr>
              <a:t>Manor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Had less than 600 residents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They produced everything they needed: Food, Clothing, and Farming Tools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Peasants lived  a not-so-well put together cottage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The Manor House was were the lord and his family lived. 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A fun fact is that the kitchen was outside of the main building in case of a fire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04560" y="660240"/>
            <a:ext cx="4190760" cy="6159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Lucida Grande"/>
              </a:rPr>
              <a:t>Peasant Lives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Worked from sunup to sundown growing food and making other products for their families, lords, or to sell to towns.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Given land and a house in order to do work for the lord. 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Free peasants rented land from the lord and didn’t have to work for him.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26708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39320" y="596880"/>
            <a:ext cx="88520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Lucida Grande"/>
              </a:rPr>
              <a:t>Life on the Manor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You were either peasants, trades people, women/children, or a higher class official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rades people would be millers, bakers, smiths, or carpenters to sell and trade their products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Women and Children would make clothes and meals or tend gardens and look after livestock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1181160" y="4152960"/>
            <a:ext cx="4473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0400" y="863640"/>
            <a:ext cx="889020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cc"/>
                </a:solidFill>
                <a:latin typeface="Lucida Grande"/>
              </a:rPr>
              <a:t>Difficult Times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2712"/>
                </a:solidFill>
                <a:latin typeface="Lucida Grande"/>
              </a:rPr>
              <a:t>Famine, Diseases, and Peasant Rebellions happened on the Manor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Peasants would produce enough for their lords but sometimes not enough for everyone. If crops were damaged famine would be a result.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Diseases such as the Plague, or the Black Death, traveled on ship by rats. There was both the bubonic and pneumonic plague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Peasant Rebellions were common when there conditions of working got worse.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660240" y="474984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fulton</dc:creator>
  <dc:description/>
  <dc:language>en-US</dc:language>
  <cp:lastModifiedBy/>
  <cp:revision>0</cp:revision>
  <dc:subject/>
  <dc:title>Life On a Medieval Manor</dc:title>
</cp:coreProperties>
</file>